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1CE1-6D4E-4DA5-9193-00CB8E93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979A-B978-4BBE-BA41-BD2E2ED2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629F-1BB6-47E3-A511-E0D67081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1155-6701-4680-8416-D2AE943B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16A7-F028-4FBC-BED9-A556E6D1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0D3D-71C8-403A-B8DD-27C8D66A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A283-3B17-423A-8961-4B4901CA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476E-4160-4DEA-AAC7-A82DD254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4DB0-F898-4653-BDDD-F4F724D2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16AB-7D5B-47B6-BDDE-12446F7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275A-91CF-44E4-B30D-009C193D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E55A-E519-41C8-BADB-597B64A5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E568-AB86-48EB-A3C4-D8848EF40C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КС РФ рассмотрит дело о взимании платы за загрязнение окружающей среды"/>
          <p:cNvPicPr/>
          <p:nvPr/>
        </p:nvPicPr>
        <p:blipFill>
          <a:blip r:embed="rId1"/>
          <a:stretch/>
        </p:blipFill>
        <p:spPr>
          <a:xfrm>
            <a:off x="0" y="0"/>
            <a:ext cx="9083520" cy="687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960" y="4114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e5e5ff"/>
                </a:solidFill>
                <a:latin typeface="Garamond"/>
              </a:rPr>
              <a:t>Загрязнение окружающей среды, виды, классификации</a:t>
            </a:r>
            <a:endParaRPr b="1" lang="en-US" sz="55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системному подходу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560" y="685800"/>
          <a:ext cx="8762760" cy="6046920"/>
        </p:xfrm>
        <a:graphic>
          <a:graphicData uri="http://schemas.openxmlformats.org/drawingml/2006/table">
            <a:tbl>
              <a:tblPr/>
              <a:tblGrid>
                <a:gridCol w="1803240"/>
                <a:gridCol w="3763800"/>
                <a:gridCol w="319572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иоценотическ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здействия, вызывающие нарушение в составе и структуре популяций живых организм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епромысел, нерегулируемый отлов, отстрел животных, интродукция, акклиматиз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5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циально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структив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ция – место обитания, деструкция – разрушение: воздействие, приводящее к нарушению и преобразованию ландшафтов и экосистем в процессе природо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рубка лесов, эрозия почв, урбанизация, осушение болот, мелиоративные работы, зарегулирование водотоков и п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системному подходу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990720"/>
          <a:ext cx="8763120" cy="5127480"/>
        </p:xfrm>
        <a:graphic>
          <a:graphicData uri="http://schemas.openxmlformats.org/drawingml/2006/table">
            <a:tbl>
              <a:tblPr/>
              <a:tblGrid>
                <a:gridCol w="2068560"/>
                <a:gridCol w="3498840"/>
                <a:gridCol w="3195720"/>
              </a:tblGrid>
              <a:tr h="79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77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нгредиентно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вокупность веществ, количественно или качественно чуждых естественным биогеоценозам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товые стоки, ядохимикаты, удобрения, продукты сгорания, мусор и т.д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3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аметрическо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качественных параметров окружающей природной среды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умовое, тепловое, световое, радиационное, электромагнитно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Непосредственно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объектами загрязнени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вляются основные компоненты экосистем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тмосфер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д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ч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2" descr="Фотография Воздух, вода, земля из раздела природа 1549728 - фото.сайт - Photosight.ru"/>
          <p:cNvPicPr/>
          <p:nvPr/>
        </p:nvPicPr>
        <p:blipFill>
          <a:blip r:embed="rId1"/>
          <a:srcRect l="4233" t="5397" r="6163" b="3764"/>
          <a:stretch/>
        </p:blipFill>
        <p:spPr>
          <a:xfrm>
            <a:off x="2362320" y="2274840"/>
            <a:ext cx="67816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посредствованные объекты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ставляющие биогеоценоз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тения; животные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ибы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икроорганиз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" name="Picture 2" descr="&quot;Гриб:это животное или растение?"/>
          <p:cNvPicPr/>
          <p:nvPr/>
        </p:nvPicPr>
        <p:blipFill>
          <a:blip r:embed="rId1"/>
          <a:stretch/>
        </p:blipFill>
        <p:spPr>
          <a:xfrm>
            <a:off x="0" y="3632040"/>
            <a:ext cx="274320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Животные - 824067 на Sibnet"/>
          <p:cNvPicPr/>
          <p:nvPr/>
        </p:nvPicPr>
        <p:blipFill>
          <a:blip r:embed="rId2"/>
          <a:srcRect l="0" t="-283" r="0" b="10387"/>
          <a:stretch/>
        </p:blipFill>
        <p:spPr>
          <a:xfrm>
            <a:off x="3276720" y="2900520"/>
            <a:ext cx="58687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ые антропогенные загрязните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ещества, которые выбрасывающие промышленными предприятиям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нефть и нефтепродукты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пестициды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минеральные удобрения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шумы от производств, транспорта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ионизирующее излучение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ибраци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светло тепловые влия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зические (энергетические) виды загрязнен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760" y="16761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изическим загрязнение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ывают загрязнения, возникающие с изменением физических параметров среды:  тепловых, световых, электромагнитных, акустических, радиационных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" name="Picture 2" descr="Защита жилища и рабочего помещения от шума"/>
          <p:cNvPicPr/>
          <p:nvPr/>
        </p:nvPicPr>
        <p:blipFill>
          <a:blip r:embed="rId1"/>
          <a:stretch/>
        </p:blipFill>
        <p:spPr>
          <a:xfrm>
            <a:off x="4191120" y="3548160"/>
            <a:ext cx="495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ом может служить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епловое загрязн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которое является результатом повышения температуры среды в связи с промышленными выбросами теплой воды, потоков нагретого воздуха, дымов, газ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ловое воздействие может быть вторичным, как результат изменения химического состава среды (парниковый эффект), который возникает в результате антропогенного загрязнения воздуха углекислым газом, метаном, фтор-хлоруглеродами, которые пропускают солнечные лучи, но задерживают тепловое излучение поверхности Земли, тем самым, вызывая повышение температуры атмосфе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промышленности приводит к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кустическому загрязнени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реды в виде повышения  естественного уровня  шума и отклонения от нормального состояния звуковых характеристик (силы звука, периодичности). Практически любые звуки, возникающие не из природных источников и к которым живые организмы не адаптированы в течение эволюции, рассматриваются как антропогенное шумовое загрязн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Шум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36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- это волновое колебание упругой среды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физической точки зрения шум – это беспорядочное сочетание звуков различной частоты и интенсивности, отрицательно воздействующее на любые живые организмы, но в наибольшей степени на человека, вызывающее повышенную утомляемость, снижение умственной активности, производительности труда, вызывающее соматические и психические заболевания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вень шума можно характеризовать интенсивностью звука - и принято измерять в относительных единицах – децибелах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Физико-биологическая адаптация к шуму невозможн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ные уровни шум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4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Болевые ощущ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3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аскаты гро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1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Оркестр поп-музы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0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Тяжелый грузови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7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Салон легкового автомобил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5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азговорная реч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0 -2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Шеп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2-3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Зимний лес в безветренную пого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2/3 жителей Татарстана проживает в очень загрязнённых городах :: KazanFirst - новости Татарстана, Казань, Набережные Челны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Garamond"/>
              </a:rPr>
              <a:t>Загрязнение окружающей сред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411444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привнесение в среду или возникновение в ней новых  (обычно не характерных для неё) химических, физических, биологических или информационных факторов, или превышение естественного уровня содержания данных факторов в среде, приводящих к негативным последствия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брац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ожные колебания в механических системах, которые передаются через грунт и воспринимаются при контакте с вибрирующим телом, при частоте 1 – 100 Гц они воспринимаются как сотрясения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брация может измеряться с помощью как абсолютных,  так и относительных величи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бсолютные параметры – вибросмещение, виброскорость, виброускорен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носительная величина – уровень виброскорости в децибел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сновные источники вибрации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40" y="9144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ологическое оборудование ударного действия (молоты, прессы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щные энергетические установки (насосы, компрессоры, двигатели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льсовый транспор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рополитен неглубокого залег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Picture 4" descr="В верхах: Новости Екатеринбурга: Екатеринбург Он-Лайн"/>
          <p:cNvPicPr/>
          <p:nvPr/>
        </p:nvPicPr>
        <p:blipFill>
          <a:blip r:embed="rId1"/>
          <a:stretch/>
        </p:blipFill>
        <p:spPr>
          <a:xfrm>
            <a:off x="3733920" y="3792600"/>
            <a:ext cx="54100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брация распространяется по грунту и достигает фундаментов общественных и жилых зданий, которые могут разрушающе действовать на различные конструкции и сооружения. Однако они затухают в грунте примерно с темпом 1 дБ/ми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2" descr="Tatra trams Picture Gallery - Photo Gallery - Images"/>
          <p:cNvPicPr/>
          <p:nvPr/>
        </p:nvPicPr>
        <p:blipFill>
          <a:blip r:embed="rId1"/>
          <a:srcRect l="0" t="7000" r="0" b="21517"/>
          <a:stretch/>
        </p:blipFill>
        <p:spPr>
          <a:xfrm>
            <a:off x="0" y="267804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360" y="15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тественное магнитное поле Земли, напряженность которого увеличивается с широтой, и региональные аномалии этого поля в местах залежей железной руды 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естественными магнитными полями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оследние несколько десятилетий сформировался новый фактор окружающей среды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– электромагнитные поля  (ЭМП) радичастот антропогенного происхожд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2" descr="Магнитное поле Земли. - 25 Декабря 2013 - Blog - Dpogum"/>
          <p:cNvPicPr/>
          <p:nvPr/>
        </p:nvPicPr>
        <p:blipFill>
          <a:blip r:embed="rId1"/>
          <a:stretch/>
        </p:blipFill>
        <p:spPr>
          <a:xfrm>
            <a:off x="4876920" y="3257640"/>
            <a:ext cx="426708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wisaev: Поменяются ли Полюса Земли?"/>
          <p:cNvPicPr/>
          <p:nvPr/>
        </p:nvPicPr>
        <p:blipFill>
          <a:blip r:embed="rId2"/>
          <a:stretch/>
        </p:blipFill>
        <p:spPr>
          <a:xfrm>
            <a:off x="0" y="3249720"/>
            <a:ext cx="44956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источники электромагнитных полей радиочастот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160" y="1371600"/>
            <a:ext cx="5085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диотехнические объекты (РТО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елевизионные и радиолокационные станции (РЛС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рмические цех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которые технологические установ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2" descr="Природные источники электромагнитных полей"/>
          <p:cNvPicPr/>
          <p:nvPr/>
        </p:nvPicPr>
        <p:blipFill>
          <a:blip r:embed="rId1"/>
          <a:stretch/>
        </p:blipFill>
        <p:spPr>
          <a:xfrm>
            <a:off x="5181480" y="1317600"/>
            <a:ext cx="3962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пряженность ЭМП возрастает особенно резко вблизи ЛЭП, радио- и телестанций, средств радиолокации и радиосвязи ( в том числе мобильной и спутниковой), различных энергетических и энергоемких установок, термических цехов и участков (зонах, примыкающих к промышленным предприятиям), городского транспор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" descr="Сбор электроэнергии из окружающей средыАгрегатор IT новостей Crowler-pcworld Агрегатор IT новостей Crowler-pcworld"/>
          <p:cNvPicPr/>
          <p:nvPr/>
        </p:nvPicPr>
        <p:blipFill>
          <a:blip r:embed="rId1"/>
          <a:stretch/>
        </p:blipFill>
        <p:spPr>
          <a:xfrm>
            <a:off x="3809880" y="3289320"/>
            <a:ext cx="53341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диационное загрязн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77640"/>
            <a:ext cx="868680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в результате действия ионизирующей радиации (излучения), а радиоактивное – в результате превышения уровня естественного содержания радиоактивных веществ в окружающей среде. Радиационное и радиоактивное загрязнения вызывают превышение                                                                  радиационного фона                                                    Земли, к которому все                                                   живые организмы                                         адаптированы                                                                   в ходе эволю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" descr="Радиация и здоровье человека - Фото 13013/9"/>
          <p:cNvPicPr/>
          <p:nvPr/>
        </p:nvPicPr>
        <p:blipFill>
          <a:blip r:embed="rId1"/>
          <a:stretch/>
        </p:blipFill>
        <p:spPr>
          <a:xfrm>
            <a:off x="4191120" y="3540240"/>
            <a:ext cx="49528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вышение нормативов может вызвать серьезные изменения в окружающей среде и организме человека. Наиболее опасным последствием радиационного загрязнения является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утагенный эффект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утации передаются в поколениях и могут вызвать стойкие изменения в биосфе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Техника кармических влияний. Продолжение"/>
          <p:cNvPicPr/>
          <p:nvPr/>
        </p:nvPicPr>
        <p:blipFill>
          <a:blip r:embed="rId1"/>
          <a:srcRect l="0" t="0" r="0" b="11303"/>
          <a:stretch/>
        </p:blipFill>
        <p:spPr>
          <a:xfrm>
            <a:off x="4343400" y="36385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СОТВОРЕНИЕ ИЛИ ИСТОРИЧЕСКАЯ ЭВОЛЮЦИЯ. - Страница 79"/>
          <p:cNvPicPr/>
          <p:nvPr/>
        </p:nvPicPr>
        <p:blipFill>
          <a:blip r:embed="rId2"/>
          <a:srcRect l="5732" t="0" r="0" b="0"/>
          <a:stretch/>
        </p:blipFill>
        <p:spPr>
          <a:xfrm>
            <a:off x="-1440" y="3638520"/>
            <a:ext cx="40543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онизирующее излуч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вид излучения, взаимодействие которого со средой  приводит к образованию ион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Два основных типа радиации Излучение Частиц -Альфа частицы Бета частицы Электромагнитное излучение Радиоволны Микроволны Ультраф"/>
          <p:cNvPicPr/>
          <p:nvPr/>
        </p:nvPicPr>
        <p:blipFill>
          <a:blip r:embed="rId1"/>
          <a:stretch/>
        </p:blipFill>
        <p:spPr>
          <a:xfrm>
            <a:off x="914400" y="2324160"/>
            <a:ext cx="75438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α- частицы – ядра гелия, несущие два элементарных положительных заряда, представляют главную опасность при попадании радионуклидов внутрь организ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http://fr.novopress.info/wp-content/uploads/2012/05/Radio-activit%C3%A9.jpg"/>
          <p:cNvPicPr/>
          <p:nvPr/>
        </p:nvPicPr>
        <p:blipFill>
          <a:blip r:embed="rId1"/>
          <a:stretch/>
        </p:blipFill>
        <p:spPr>
          <a:xfrm>
            <a:off x="1219320" y="2422440"/>
            <a:ext cx="6476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причине загрязнения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drawingml/2006/table">
            <a:tbl>
              <a:tblPr/>
              <a:tblGrid>
                <a:gridCol w="798480"/>
                <a:gridCol w="1768680"/>
                <a:gridCol w="2806560"/>
                <a:gridCol w="3770280"/>
              </a:tblGrid>
              <a:tr h="7318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292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теств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зникает в результате природных процессов, катастрофических причи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ыльные бури, вулканический пепел, пожары от молний, продукты выветривания, морская и космическая пыль, разложение организм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9264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троп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мыш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ают в результате деятельности человека, в т. ч. их прямого или косвенного влия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ка, металлургия, химическая, нефтяная промышленность, цементная промышленность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то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опление, транспор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β- частицы – ядерные частицы, близкие по физической природе к электронам, возникают при радиоактивном распаде и сразу же излучаются, опасны в основном при попадании радионуклидов на кожные покровы и внутрь организ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1.4 Радиоактивность и ядерная энергия Науколандия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γ  - кванты – самые коротковолновые электромагнитные излучения, которые образуются в ходе ядерных реакций и при распаде осколков деления, близки к рентгеновским лучам, но имеют более короткую длину волны, опасны при любой форме воздейств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2" descr="Alpha Beta Gamma Radiation Symbols"/>
          <p:cNvPicPr/>
          <p:nvPr/>
        </p:nvPicPr>
        <p:blipFill>
          <a:blip r:embed="rId1"/>
          <a:stretch/>
        </p:blipFill>
        <p:spPr>
          <a:xfrm>
            <a:off x="4572000" y="2525760"/>
            <a:ext cx="4572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- нейтроны – вылетают из ядер атомов при реакциях деления и синтеза, проникают в биоткань на большую глубину, с нейтронным потоком можно встретиться только при ядерном взрыве или работающем ядерном реакторе, он не возникает при радиоактивном распаде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" descr="NRC: Radiation Basics"/>
          <p:cNvPicPr/>
          <p:nvPr/>
        </p:nvPicPr>
        <p:blipFill>
          <a:blip r:embed="rId1"/>
          <a:stretch/>
        </p:blipFill>
        <p:spPr>
          <a:xfrm>
            <a:off x="1219320" y="3200400"/>
            <a:ext cx="673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диоактив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произвольное превращение неустойчивого нуклида в другой нуклид, сопровождающееся испусканием ионизирующих излуч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лавной характеристикой степени опасности является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доза излуч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Физические основы. Радиоактивность деления"/>
          <p:cNvPicPr/>
          <p:nvPr/>
        </p:nvPicPr>
        <p:blipFill>
          <a:blip r:embed="rId1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Экспозиционная доза –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количество γ – излучения. Экспозиционная доза характеризует потенциальную опасность γ -излуче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Поглощенная доза –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количество энергии любого вида излучения, поглощенное в единице массы вещества. Это физическая доза излуче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Эквивалентная доза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– количество энергии любого вида излучения, поглощенное в единице массы вещества с учетом качества излучения. Эта доза не может быть измерена, а должна быть рассчитан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новое радиоактивное излуче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ладывается из 3 групп фактор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Схема 1" descr=""/>
          <p:cNvPicPr/>
          <p:nvPr/>
        </p:nvPicPr>
        <p:blipFill>
          <a:blip r:embed="rId1"/>
          <a:stretch/>
        </p:blipFill>
        <p:spPr>
          <a:xfrm>
            <a:off x="-6480" y="1298520"/>
            <a:ext cx="91630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ое загрязнение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8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иологическое загрязнение ОС подразделяется на биотическое и (биогенное) и микробно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биотическому загрязнени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тносят распространение в окружающей среде биогенных веществ – выделений сельскохозяйственных животных с ферм и индивидуальных хозяйств, выбросов предприятий, производящих определенные виды продовольствия (мясокомбинатов, молокозаводов, пивзаводов, предприятий микробиологического синтеза (БВК)), предприятий, производящих антибиотики, а также загрязнение трупами живот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ое загрязнение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иотическое загрязнений может привести и часто приводит к нарушению процессов самоочищения воды и почвы, вторгаясь в естественный круговорот веще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Live and let live - WPP - 2010"/>
          <p:cNvPicPr/>
          <p:nvPr/>
        </p:nvPicPr>
        <p:blipFill>
          <a:blip r:embed="rId1"/>
          <a:stretch/>
        </p:blipFill>
        <p:spPr>
          <a:xfrm>
            <a:off x="2362320" y="2527200"/>
            <a:ext cx="678312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кробное загрязн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вследствие массового размножения микроорганизмов в антропогенных субстратах или в средах, измененных в ходе хозяйственной деятельности человека. В результате изменения субстратов ранее безвредные микроорганизмы могут приобретать патогенные свойства или                                                  способность подавлять                                                         другие микроорганизмы                                                       в сообщества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2" descr="32 современных технологических достижения, которые изменят наше будущее. Часть 3 - Курилка"/>
          <p:cNvPicPr/>
          <p:nvPr/>
        </p:nvPicPr>
        <p:blipFill>
          <a:blip r:embed="rId1"/>
          <a:stretch/>
        </p:blipFill>
        <p:spPr>
          <a:xfrm>
            <a:off x="5486400" y="3548160"/>
            <a:ext cx="36939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Классификация видов загрязнения окружающей среды (ОС)</a:t>
            </a:r>
            <a:br>
              <a:rPr sz="3500"/>
            </a:b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физико-химическим параметра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механические, физические (энергетические), химические и биологические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воздействию на компоненты ОС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выбросы в атмосферу, твердые отходы и сточные воды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токсич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токсичные и нетоксичные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массе или концентра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бразующихся загрязняющих веществ (малотоннажные и крупнотоннажные, концентрированные и разбавленные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реакционной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имически активные и инертные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Классификация загрязнений ОС по физико-химическим параметрам</a:t>
            </a:r>
            <a:br>
              <a:rPr sz="3500"/>
            </a:b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219320"/>
          <a:ext cx="8915400" cy="564660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400120"/>
                <a:gridCol w="2057400"/>
              </a:tblGrid>
              <a:tr h="3661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я 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хан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м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из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энергетическо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иологическ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38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ылевые частицы в атмосфере; твердые частицы, различные предметы в воде и почв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азообразные, жидкие и твердые химические соединения и элементы, вступающие в реакцию с компонентами ОС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пло, шум, вибрации, ультразвук, видимые инфракрасные и УФ части спектра, электромагнитные поля, ионизирующие излу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ы организмов, появившиеся при участие человека и наносящие вред ему самому и живой приро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з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изменения тепловых, электрических, радиационных, световых полей в естественной среде, шумы, вибрации, гравитационные силы, вызванные человеко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3" name="Picture 2" descr="http://img-2003-12.photosight.ru/04/359962.jpg"/>
          <p:cNvPicPr/>
          <p:nvPr/>
        </p:nvPicPr>
        <p:blipFill>
          <a:blip r:embed="rId1"/>
          <a:stretch/>
        </p:blipFill>
        <p:spPr>
          <a:xfrm>
            <a:off x="3429000" y="2592360"/>
            <a:ext cx="57117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хан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3581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разные твердые частицы и предметы (выброшенные как непригодные, сработанные, изъятые из потребления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" name="Picture 2" descr="Выносить мусор опасно Культура и Наука E-News: новости Украины и Мира"/>
          <p:cNvPicPr/>
          <p:nvPr/>
        </p:nvPicPr>
        <p:blipFill>
          <a:blip r:embed="rId1"/>
          <a:stretch/>
        </p:blipFill>
        <p:spPr>
          <a:xfrm>
            <a:off x="3733920" y="1336680"/>
            <a:ext cx="5410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им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верди, газообразные и жидкие вещества, химические элементы и соединения искусственного происхождения, которые поступают, - в биосферу, в нарушение установлены природой процессы круговорота веществ и энерг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9" name="Picture 2" descr="Pollution Oilfield Mobile News"/>
          <p:cNvPicPr/>
          <p:nvPr/>
        </p:nvPicPr>
        <p:blipFill>
          <a:blip r:embed="rId1"/>
          <a:stretch/>
        </p:blipFill>
        <p:spPr>
          <a:xfrm>
            <a:off x="3255840" y="2890800"/>
            <a:ext cx="5877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разные организмы, которые появились благодаря жизнедеятельности человечества, - бактериологическое оружие, новые вирусы (возбудители ВИЧ, болезни легионеров, эпидемий, других болезней, а также катастрофическое размножение                                        растений или животных,                                   переселенных из одной среды                                           в другое человеком                                                          или случай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" name="Picture 2" descr="Появился неуязвимый компьютерный вирус / Новости software / 3DNews - Daily Digital Digest"/>
          <p:cNvPicPr/>
          <p:nvPr/>
        </p:nvPicPr>
        <p:blipFill>
          <a:blip r:embed="rId1"/>
          <a:stretch/>
        </p:blipFill>
        <p:spPr>
          <a:xfrm>
            <a:off x="5257800" y="2938320"/>
            <a:ext cx="38862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4-09-13T13:14:45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